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4.wmf" ContentType="image/x-wmf"/>
  <Override PartName="/ppt/media/image10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73E4-27DF-4BAD-83B4-A5543DF3AD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middelde lengte: liefst beter scoren dan “zonder file + hoeveelheid file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E4DD-D306-490D-BEFA-93B5799E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8BE-2DA7-4B78-B0BC-12F327E9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53A-DE7D-400B-9505-88853B9E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429-837A-48DE-BBE1-9BD155FC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3A2-CF51-45EA-AD5C-ED72F534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8B4-5F8B-4842-A9CA-F8B37DBA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A0FD-1696-4F3C-845D-EF675876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54B-B703-425E-A041-EDCD3E42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8D3-1765-4AF8-B091-9C675F1B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970-0F85-4BA5-A046-9AE0F2F1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546-4DBD-4BE1-88B1-9016B9D4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B04-068B-430E-BF08-6FD76D34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6308-F0A5-4582-B157-C14A51011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wAnt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nts" descr=""/>
          <p:cNvPicPr/>
          <p:nvPr/>
        </p:nvPicPr>
        <p:blipFill>
          <a:blip r:embed="rId1"/>
          <a:stretch/>
        </p:blipFill>
        <p:spPr>
          <a:xfrm>
            <a:off x="2819520" y="533520"/>
            <a:ext cx="4302000" cy="556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Waarom Travelling Salesman Problem?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kkelijk voor te st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eilijk op te lo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n-1)! / 2 mogelijke oplossinge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 steden: 3 oplossinge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0 steden: 181440 oplossinge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00 steden: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4.6663 * 10</a:t>
            </a:r>
            <a:r>
              <a:rPr b="0" lang="nl-NL" sz="2800" spc="-1" strike="noStrike" baseline="30000">
                <a:solidFill>
                  <a:srgbClr val="000000"/>
                </a:solidFill>
                <a:latin typeface="Times New Roman"/>
              </a:rPr>
              <a:t>155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losss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uit goed aan bij An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at is Dynamic TS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omgeving verandert, er ontstaan files tussen st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istijd/kosten minimalis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6760" y="3809880"/>
            <a:ext cx="31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Waarom DTS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9160" y="4495680"/>
            <a:ext cx="517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jkt meer op “echte” probl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Nog complexer om op te lo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robleemomschrij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Travelling Salesman Problem (T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lassic A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nt Systems for Dynamic T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Experim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Conclusies en Aanbevel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lassic An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timalisatie techniek, gebaseerd op gedrag van echte m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ursporen (pheromonen - 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euristiek (zichtbaarheid - 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viduen zijn dom, de kolonie sl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mmunicatie via de omge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g simpel, toch heel kracht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nts_crossing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3809880" cy="3092400"/>
          </a:xfrm>
          <a:prstGeom prst="rect">
            <a:avLst/>
          </a:prstGeom>
          <a:ln w="0">
            <a:noFill/>
          </a:ln>
        </p:spPr>
      </p:pic>
      <p:pic>
        <p:nvPicPr>
          <p:cNvPr id="84" name="cutter_ant_trail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139920" cy="441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nt System: Algoritm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000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itialis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erha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t elke mier een rondje lopen door steeds met een kans naar volgende stad te ga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s de geursporen aan (verdamping, mieren en elite mie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ef beste s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3560" y="2057400"/>
            <a:ext cx="2923920" cy="43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initialisation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*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every edge (i,j)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6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(0) = </a:t>
            </a:r>
            <a:r>
              <a:rPr b="0" lang="en-GB" sz="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End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k = 1 to m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Place ant k on a randomly chosen cit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End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be the shortest tour found from beginning and L</a:t>
            </a:r>
            <a:r>
              <a:rPr b="0" lang="en-GB" sz="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its lengt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Main loop 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t = 1 to t</a:t>
            </a:r>
            <a:r>
              <a:rPr b="0" lang="en-GB" sz="6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k = 1 to m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Build tour T</a:t>
            </a:r>
            <a:r>
              <a:rPr b="0" lang="en-GB" sz="600" spc="-1" strike="noStrike" baseline="30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(t) by applying n-1 times the following step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Choose the next city j with probabilit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where i is the current city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End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k = 1 to m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Compute the length L</a:t>
            </a:r>
            <a:r>
              <a:rPr b="0" lang="en-GB" sz="6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(t) of the tour T</a:t>
            </a:r>
            <a:r>
              <a:rPr b="0" lang="en-GB" sz="6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(t) produced by ant 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End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an improved tour is found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Update T</a:t>
            </a:r>
            <a:r>
              <a:rPr b="0" lang="en-GB" sz="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and L</a:t>
            </a:r>
            <a:r>
              <a:rPr b="0" lang="en-GB" sz="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every edge (i,j)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Update pheromone trails by applying the rule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6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(t) </a:t>
            </a:r>
            <a:r>
              <a:rPr b="0" lang="en-GB" sz="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(1 - </a:t>
            </a:r>
            <a:r>
              <a:rPr b="0" lang="en-GB" sz="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6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(t) +  </a:t>
            </a:r>
            <a:r>
              <a:rPr b="0" lang="en-GB" sz="600" spc="-1" strike="noStrike">
                <a:solidFill>
                  <a:srgbClr val="000000"/>
                </a:solidFill>
                <a:latin typeface="Symbol"/>
                <a:ea typeface="Symbol"/>
              </a:rPr>
              <a:t></a:t>
            </a:r>
            <a:r>
              <a:rPr b="0" lang="en-GB" sz="6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(t) + e </a:t>
            </a:r>
            <a:r>
              <a:rPr b="0" lang="en-GB" sz="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6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6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(t) whe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nl-NL" sz="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nl-NL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End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every edge (i,j)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6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(t+1) = </a:t>
            </a:r>
            <a:r>
              <a:rPr b="0" lang="en-GB" sz="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6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End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End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Print 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the shortest tour T</a:t>
            </a:r>
            <a:r>
              <a:rPr b="0" lang="en-GB" sz="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and its length L</a:t>
            </a:r>
            <a:r>
              <a:rPr b="0" lang="en-GB" sz="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Values for parameters 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0" lang="en-GB" sz="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=6 , </a:t>
            </a:r>
            <a:r>
              <a:rPr b="0" lang="en-GB" sz="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= 0.5 , m=n , Q = 100,  </a:t>
            </a:r>
            <a:r>
              <a:rPr b="0" lang="en-GB" sz="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lang="en-GB" sz="6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, e = 5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295280" y="3352680"/>
                <a:ext cx="7621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[</m:t>
                            </m:r>
                            <m:r>
                              <m:t xml:space="preserve">τ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[</m:t>
                            </m:r>
                            <m:r>
                              <m:t xml:space="preserve">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τ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l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α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l</m:t>
                                </m:r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, if  j</m:t>
                    </m:r>
                    <m:r>
                      <m:t xml:space="preserve">∈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447920" y="4648320"/>
                <a:ext cx="520560" cy="1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p>
                      <m:e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Δ</m:t>
                        </m:r>
                      </m:e>
                    </m:nary>
                    <m:sSup>
                      <m:e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447920" y="4800600"/>
                <a:ext cx="8571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τ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47920" y="5257800"/>
                <a:ext cx="90792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τ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nt System: Algoritme (2)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euze volgende s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95280" y="2286000"/>
                <a:ext cx="652788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[</m:t>
                            </m:r>
                            <m:r>
                              <m:t xml:space="preserve">τ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[</m:t>
                            </m:r>
                            <m:r>
                              <m:t xml:space="preserve">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τ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l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α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l</m:t>
                                </m:r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, if  j</m:t>
                    </m:r>
                    <m:r>
                      <m:t xml:space="preserve">∈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371600" y="4343400"/>
                <a:ext cx="34290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 if  j</m:t>
                    </m:r>
                    <m:r>
                      <m:t xml:space="preserve">∉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nt System: Algoritme (3)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passen geursp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2057400"/>
            <a:ext cx="586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t+1) = (1 -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t) + 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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t) + 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143000" y="2743200"/>
                <a:ext cx="32004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p>
                      <m:e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Δ</m:t>
                        </m:r>
                      </m:e>
                    </m:nary>
                    <m:sSup>
                      <m:e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43000" y="3657600"/>
                <a:ext cx="518148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τ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19320" y="5010120"/>
                <a:ext cx="487656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τ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robleemomschrij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Travelling Salesman Problem (T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Classic A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nt Systems for Dynamic T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Experim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Conclusies en Aanbevel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Ant Systems for Dynamic T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chil met normaal TSP: slechte wegen kunnen goed worden en vice vers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robleem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Ant System kapt slechte wegen snel af door het verdampen van geurspo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s een weg niet of weinig wordt gebruikt, zal er na korte tijd (bijna) geen geurspoor meer lig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nt Systems for dynamic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s caught in a traffic j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3360" y="533412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asper Joost Eyckelh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orbe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3120" y="1676520"/>
          <a:ext cx="220212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1676520"/>
                    <a:ext cx="22021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665440" y="1676520"/>
          <a:ext cx="2201760" cy="2209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5440" y="1676520"/>
                    <a:ext cx="22017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743200" y="419112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engte: 48.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69000" y="1676520"/>
            <a:ext cx="37119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Nieuwe ronde (4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Stad = 1 kans array = [0,50,</a:t>
            </a: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,50]. Kansvalue =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Stad = 4 kans array = [0,</a:t>
            </a: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,100,0]. Kansvalue =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Stad = 3 kans array = [</a:t>
            </a: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,100,0,0]. Kansvalue =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45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Stad = 2 kans array = [97,0,2,</a:t>
            </a: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]. Kansvalue =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Stad = 1 kans array = [0,0,</a:t>
            </a: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,100]. Kansvalue =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Stad = 4 kans array = [0,</a:t>
            </a: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,100,0]. Kansvalue =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Stad = 3 kans array = [</a:t>
            </a: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,2,0,97]. Kansvalue =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Stad = 4 kans array = [100,</a:t>
            </a: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,0,0]. Kansvalue =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Stad = 1 kans array = [0,100,</a:t>
            </a: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,0]. Kansvalue =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45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Stad = 4 kans array = [50,</a:t>
            </a: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,50,0]. Kansvalue =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Stad = 1 kans array = [0,100,</a:t>
            </a: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,0]. Kansvalue =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Stad = 2 kans array = [0,0,100,</a:t>
            </a: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]. Kansvalue =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ortste tour in ronde 45 is van mier 1: 49.0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Route: 1, 4, 3,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191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engte: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4920" y="1676520"/>
            <a:ext cx="2209680" cy="3660120"/>
            <a:chOff x="304920" y="1676520"/>
            <a:chExt cx="2209680" cy="3660120"/>
          </a:xfrm>
        </p:grpSpPr>
        <p:pic>
          <p:nvPicPr>
            <p:cNvPr id="113" name="4steden-1file" descr=""/>
            <p:cNvPicPr/>
            <p:nvPr/>
          </p:nvPicPr>
          <p:blipFill>
            <a:blip r:embed="rId5"/>
            <a:stretch/>
          </p:blipFill>
          <p:spPr>
            <a:xfrm>
              <a:off x="304920" y="1676520"/>
              <a:ext cx="22096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09480" y="4876920"/>
              <a:ext cx="149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Lengte: 4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85440" y="4191120"/>
              <a:ext cx="1295640" cy="457200"/>
              <a:chOff x="685440" y="4191120"/>
              <a:chExt cx="1295640" cy="457200"/>
            </a:xfrm>
          </p:grpSpPr>
          <p:sp>
            <p:nvSpPr>
              <p:cNvPr id="116" name=""/>
              <p:cNvSpPr/>
              <p:nvPr/>
            </p:nvSpPr>
            <p:spPr>
              <a:xfrm>
                <a:off x="685800" y="4267080"/>
                <a:ext cx="1295280" cy="304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85440" y="4191120"/>
                <a:ext cx="1219320" cy="457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ogelijke oplo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kansen voor bepaalde wegen worden 0 omdat de hoeveelheid geurstof (</a:t>
            </a:r>
            <a:r>
              <a:rPr b="0" lang="nl-NL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) 0 word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143000" y="3124080"/>
                <a:ext cx="6527880" cy="163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[</m:t>
                            </m:r>
                            <m:r>
                              <m:t xml:space="preserve">τ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[</m:t>
                            </m:r>
                            <m:r>
                              <m:t xml:space="preserve">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τ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l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α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l</m:t>
                                </m:r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, if  j</m:t>
                    </m:r>
                    <m:r>
                      <m:t xml:space="preserve">∈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29800" y="4876920"/>
            <a:ext cx="72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lossing: geef </a:t>
            </a:r>
            <a:r>
              <a:rPr b="0" lang="nl-NL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een minumum waard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og een proble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39280" y="2133720"/>
            <a:ext cx="6889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ans is nu niet meer 0, maar kan nog erg klein zij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door het lang kan duren voordat de nieuwe we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lsnog gebruikt wor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rzaak: grote verschillen tussen hoeveelheid geur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 verschillende we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(Soms factor 10 miljoen of mee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plossing: “Shaking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doeld om hoeveelheid geurstoffen te normalis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deeltelijk behoud van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formule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1 + log 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hak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14600" y="1600200"/>
          <a:ext cx="380376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600200"/>
                    <a:ext cx="380376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600200" y="487692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rst 1000x zoveel, nu 7x zov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rst 10000000x zoveel, nu 17x zov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ocal Sh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 is een grote kans dat Shaking toch nog teveel informatie weggooit, want veranderingen zijn zeer loka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ocal shaking schudt alleen de gebieden in de buurt van de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arameter (p) geeft grootte van dat gebied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wee versies getest: 10% en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robleemomschrij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Travelling Salesman Problem (T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Classic A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0000"/>
                </a:solidFill>
                <a:latin typeface="Times New Roman"/>
              </a:rPr>
              <a:t>Ant Systems for Dynamic T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Experim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Conclusies en Aanbevel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xperime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5 steden, weinig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00 steden, veel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orte files (25 un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angere files (50 un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nchma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staan nog niet voor dit probleem, maar logische kenmerken om naar kijken zij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nel reageren op verander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age pieken en snelle dal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middelde lengte van de ro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5 verschillende varianten testen: nop, reset, globalshake, shake10, shake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25 steden (problee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 dynamische peri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robleem_25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3657600"/>
            <a:ext cx="304560" cy="380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09120" y="1752120"/>
            <a:ext cx="3962520" cy="3124440"/>
            <a:chOff x="609120" y="1752120"/>
            <a:chExt cx="3962520" cy="3124440"/>
          </a:xfrm>
        </p:grpSpPr>
        <p:sp>
          <p:nvSpPr>
            <p:cNvPr id="143" name=""/>
            <p:cNvSpPr/>
            <p:nvPr/>
          </p:nvSpPr>
          <p:spPr>
            <a:xfrm flipH="1">
              <a:off x="4343040" y="4800240"/>
              <a:ext cx="228600" cy="76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09120" y="1752120"/>
              <a:ext cx="381240" cy="228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bleemomschrij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ravelling Salesman Problem (T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lassic A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nt Systems for Dynamic T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Experim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Conclusies en Aanbevel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25 steden (gedra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schud_elite_25_5points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275520" cy="470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25 steden (resultaten)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8600" y="3886200"/>
          <a:ext cx="9144000" cy="206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86200"/>
                    <a:ext cx="914400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schud_elite_25_5points" descr=""/>
          <p:cNvPicPr/>
          <p:nvPr/>
        </p:nvPicPr>
        <p:blipFill>
          <a:blip r:embed="rId3"/>
          <a:stretch/>
        </p:blipFill>
        <p:spPr>
          <a:xfrm>
            <a:off x="6553080" y="1828800"/>
            <a:ext cx="2362320" cy="177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25 steden (resultaten)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anglijs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ake, Shake 25%, Shake 10%, Reset, N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en enorme verschillen, maar Shake toch duidelijk beter dan No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25 steden (resultaten)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56920" y="121932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ste, slechtste en zonder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371600" y="1600200"/>
          <a:ext cx="6629400" cy="497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629400" cy="49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100 steden (probleem)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g dynamisch vergeleken met 25 st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 variante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50 ‘units’ file (y=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5 ‘units’ file (y=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trappetjes_y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04040" cy="245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100 steden (probleem)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100steden_778lengte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756320" cy="475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100 steden, 50 file (resultaat)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143000" y="1600200"/>
          <a:ext cx="9144000" cy="24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9144000" cy="24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 flipV="1">
            <a:off x="6858000" y="3962520"/>
            <a:ext cx="0" cy="1295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4114800"/>
            <a:ext cx="6172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anglijst: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ake 10, Shake 25, Nop, Shake, 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formatie weggooien blijkt kostbaa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100 steden, 50 file (resultaat)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52480" y="1676520"/>
          <a:ext cx="5715000" cy="429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571500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100 steden, 25 file (resultaat)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880" y="1752480"/>
          <a:ext cx="10447560" cy="274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1044756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 flipV="1">
            <a:off x="6781680" y="4343400"/>
            <a:ext cx="0" cy="1295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44956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anglijst: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ake25, Shake10, Nop, Shake, 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jna zelfde result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100 steden, 25 file (resultaat)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600200"/>
          <a:ext cx="6093000" cy="457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0930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emomschrij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oon aan dat Ant Systems geschikt zijn voor dynamische problemen</a:t>
            </a:r>
            <a:br>
              <a:rPr sz="3200"/>
            </a:b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“..., we believe it is on dynamic problems that swarm-based algorithms might exhibit particularly good performance. This latter conjecture remains to be confirmed.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beer verbeteringen in Ant System aan te brengen voor gebruik bij dynamische probl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llen 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tussen de 100 steden problem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5 file’ beter resultaat dan ‘50 file’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3.36 be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5 file’ komt dichter bij omslagp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5 file’ verliest minder per tijdseenhe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5 file’ gemiddeld slechter dan een triviaal ander algorit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robleemomschrij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Travelling Salesman Problem (T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Classic A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0000"/>
                </a:solidFill>
                <a:latin typeface="Times New Roman"/>
              </a:rPr>
              <a:t>Ant Systems for Dynamic T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0000"/>
                </a:solidFill>
                <a:latin typeface="Times New Roman"/>
              </a:rPr>
              <a:t>Experim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Conclusies en Aanbevel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nclusies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t Systems presteren heel behoorlijk op dynamische proble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evoegen van minimum geur-niveau en shaking verbetert de prestaties van Ant Systems dynamische proble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e dynamischer het probleem, hoe interessanter shaking 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Niet alle soorten dynamische problemen zijn even geschikt om op te lossen met AS-DTS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... en Aanbeveli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g veel parameters in het spel: beter onderzoe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beren problemen te classificeren en op basis daarvan een algoritme te gebrui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estaties van AS-DTSP op statische problemen onderzoe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ant_wave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2984760" cy="4896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419720" y="1295280"/>
            <a:ext cx="35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Times New Roman"/>
              </a:rPr>
              <a:t>Vragen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robleemomschrij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ravelling Salesman Problem (T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lassic A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nt Systems for Dynamic T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Experim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Conclusies en Aanbevel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ravelling Salesman Problem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andelsreizigersproble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 is het Travelling Salesman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rom Travelling Salesman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 is Dynamic TS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 is het Travelling Salesman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2286000"/>
            <a:ext cx="6610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ek de kortste rondgang langs alle sted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aarbij elke stad precies eenmaal wordt aangedaa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orbeeld: 4 st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2590920"/>
          <a:ext cx="265608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90920"/>
                    <a:ext cx="26560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352680" y="2590920"/>
          <a:ext cx="2652840" cy="2666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590920"/>
                    <a:ext cx="26528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248520" y="2590920"/>
          <a:ext cx="2652480" cy="26668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2590920"/>
                    <a:ext cx="26524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a6"/>
            </a:gs>
            <a:gs pos="100000">
              <a:srgbClr val="53684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orbeeld: 15112 st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d15map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3120840" cy="4038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97720" y="5029200"/>
            <a:ext cx="41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15112 steden in Duit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22.6 jaar rekentijd (op 500M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t Systems for dynamic probl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12:45:36Z</dcterms:created>
  <dc:creator>joost</dc:creator>
  <dc:description/>
  <dc:language>en-US</dc:language>
  <cp:lastModifiedBy>joost</cp:lastModifiedBy>
  <dcterms:modified xsi:type="dcterms:W3CDTF">2001-08-23T21:22:04Z</dcterms:modified>
  <cp:revision>14</cp:revision>
  <dc:subject/>
  <dc:title>Ant Sytems for dynamic problems</dc:title>
</cp:coreProperties>
</file>